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98A-C507-445D-A504-0B9959B7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3E1-10BB-45F7-90C2-13AC0A6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AA2-3927-4F16-83B6-5F9FD7EC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FDE-CFF7-4180-A66B-912F008F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196-A7C3-4815-82F9-7E950A7F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ECB-C5EC-44E4-8875-7E73939C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9DF-8F7A-4299-89BB-8937F03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1D1-D3BF-40DD-92C2-74CE6A0A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1B0-C3BA-4A7E-9E75-DE669648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78C-01F7-44DE-9E6C-51FD1F96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A16-2132-4BEC-9A13-3225495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6DB-2866-4B45-A68F-E6C40D6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B9C106B1-B5F3-44A1-9E79-B41DC9EC0213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2000" y="104713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f0a7c"/>
                </a:solidFill>
                <a:latin typeface="Arial"/>
              </a:rPr>
              <a:t>Volume III/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6:27Z</dcterms:modified>
  <cp:revision>53</cp:revision>
  <dc:subject/>
  <dc:title>Slide sem título </dc:title>
</cp:coreProperties>
</file>